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522720" y="-360"/>
            <a:ext cx="7715160" cy="57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B8F1-7633-4784-A52B-057AD795ECA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질의 양 ≠ 무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But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질의 양 ∝ 무게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른 조건이 같을 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진자 실험을 통해 증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유의 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질이 자신의 상태를 유지하려는 저항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해진 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질의 상태를 바꿔주는 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 힘은 작용 중에만 존재하고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작용이 끝나면 더 이상 물체 속에 남아 있지 않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…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가해진 힘의 기원은 충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압력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심력과 같이 다양하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수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실험 종합의 의미도 있지만 다음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정말 뉴턴은 가설을 세우지 않았을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여기서 배격되는 “가설”이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 microscopic mechanis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힘을 얻어낸 방식이 그러한 귀납적인 과정이었을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신이 부여한 최초의 운동 계속될 수 있도록 관성의 원리 제공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신은 불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신이 부여한 운동의 양도 불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갈릴레오에게 자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비자연 구분이 있었다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운동의 상대성’ 원리는 정식화했지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그것과 일관된 역학 체계를 기술할 방법이 없었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또한 데카르트의 역학은 자신의 철학 체계의 일부였을 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구체적이고 세부적인 문제에 관심 없었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여전히 원운동을 당연한 것으로 놓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원운동 시에 발생하는 원심적 경향에 관심을 가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데카르트에게 중력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외부의 힘의 작용에 의한 가속으로서가 아니라 원심적 경향을 통해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즉 무거운 것은 가벼운 것보다 원심적 경향이 더 작아서 상대적으로 지구 중심을 향해 밀린다는 식으로 설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C93-9CB1-40C9-9D16-0BED2165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922-5F39-4748-A3B7-8D4DC62F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2E3-D6FF-47BC-AED6-0496A92A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2D5-F2D7-4363-B6A4-088C6604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FABC-6570-4992-B949-11092508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E553-EDFC-455E-BD8A-89D4D3A5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E318-5628-4285-9F39-C514ADFE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5EA2-016D-44DF-B4FD-37AFE324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0B63-D108-4288-A048-268279B2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BBAB-6418-4CD9-8E82-15EFA241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08E9-FB6A-4ECA-AC77-29CC2CC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73F-30F2-441A-9EC2-906C6024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9021-89DD-41AA-B899-41BEF882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6118-79E9-48D5-B308-D1D2AB58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F374-3D08-4A09-9C99-58764F42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7615-C06A-4F98-BDD7-192F6AE4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E70A-6AA5-4EDC-B938-42CB8FC6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A0C-FF95-4CCC-8FC3-3D0DDFDC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346-9150-40E1-B71C-7C663F2B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B48-F932-46D0-8420-4BA34995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FBA-A009-4AE8-A33F-3F276283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031-4419-41F1-A5B6-E3067540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D95-4803-4002-B30C-F1274F98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8BD-9CC0-4899-B9EB-AD48B7D0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B746-3CE0-43DE-8AF7-2D5B5F05C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6D6B-D118-47FA-BDF2-AF2517F1E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483920"/>
            <a:ext cx="5398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Microsoft Sans Serif"/>
              </a:rPr>
              <a:t>역학 혁명 </a:t>
            </a:r>
            <a:r>
              <a:rPr b="1" lang="en-US" sz="3600" spc="-1" strike="noStrike">
                <a:solidFill>
                  <a:srgbClr val="cc0000"/>
                </a:solidFill>
                <a:latin typeface="Microsoft Sans Serif"/>
              </a:rPr>
              <a:t>2: </a:t>
            </a:r>
            <a:r>
              <a:rPr b="1" lang="zh-CN" sz="3600" spc="-1" strike="noStrike">
                <a:solidFill>
                  <a:srgbClr val="cc0000"/>
                </a:solidFill>
                <a:latin typeface="Microsoft Sans Serif"/>
              </a:rPr>
              <a:t>데카르트와 뉴턴</a:t>
            </a:r>
            <a:endParaRPr b="1" lang="en-US" sz="36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824360" cy="3645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921200" y="2492280"/>
            <a:ext cx="4222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3403440" cy="46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90000" y="5661000"/>
            <a:ext cx="29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Kneller</a:t>
            </a: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가 그린 뉴턴 초상화</a:t>
            </a: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, 168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952880" y="609480"/>
            <a:ext cx="3429000" cy="5079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87520" y="5737320"/>
            <a:ext cx="31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Thornhill</a:t>
            </a: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이 그린 뉴턴 초상화 </a:t>
            </a: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171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뉴턴의 사과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635280" y="404640"/>
            <a:ext cx="394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프린키피아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자연철학의 수학적 원리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(1687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600" spc="-1" strike="noStrike">
                <a:solidFill>
                  <a:srgbClr val="000000"/>
                </a:solidFill>
                <a:latin typeface="Microsoft Sans Serif"/>
              </a:rPr>
              <a:t>Philosophiae Naturalis Principia Mathematica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500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페이지 분량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권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자신의 미적분 사용 안함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복잡한 기하학을 이용하여 내용 전개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유클리드의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lt;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기하학 원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gt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형식 채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의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공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법칙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보조정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명제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348000" y="328464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84720" y="3357720"/>
            <a:ext cx="23209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정의와 법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정의들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물질의 양”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질량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과 “운동의 양”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운동량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고유의 힘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inherent force)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과 가해진 힘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impressed force)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구심력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물체를 어떠한 중심으로 끌어당기는 힘 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eg. 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중력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자기력 등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또 하나의 구심력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운동 중인 행성을 계속 끌어당겨서 회전하도록 강제하는 힘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이 구심력이 중력과 동일한 것임을 제안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투사체의 운동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세 가지 운동 법칙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(1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권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제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법칙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관성의 법칙  ← 데카르트의 법칙 재천명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물체는 그것에 가해진 힘이 없는 한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정지 또는 등속직선운동을 계속한다” 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제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법칙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운동의 법칙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F=ma? No. F=Δ(mv)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운동의 변화는 가해진 힘에 비례하며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그 힘이 가해진 직선방향으로 나타난다” 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제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법칙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작용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-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반작용의 법칙 ← 운동량 보존 법칙의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force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버전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모든 작용에 대하여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그 크기가 같고 방향이 반대인 반작용이 항상 존재한다”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운동에 대한 설명과 확장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구심력에 의한 각종 운동들 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권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각종 구심력에 의해 만들어지는 운동의 기하학적 형태 유도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역으로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운동의 각종 기하학적 형태를 만들어내는 구심력 유도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Microsoft Sans Serif"/>
              </a:rPr>
              <a:t>저항이 있는 매질 속에서의 운동 </a:t>
            </a:r>
            <a:r>
              <a:rPr b="1" lang="ko-KR" sz="2800" spc="-1" strike="noStrike">
                <a:solidFill>
                  <a:srgbClr val="000000"/>
                </a:solidFill>
                <a:latin typeface="Microsoft Sans Serif"/>
              </a:rPr>
              <a:t>(2</a:t>
            </a:r>
            <a:r>
              <a:rPr b="1" lang="ko-KR" sz="2800" spc="-1" strike="noStrike">
                <a:solidFill>
                  <a:srgbClr val="000000"/>
                </a:solidFill>
                <a:latin typeface="Microsoft Sans Serif"/>
              </a:rPr>
              <a:t>권</a:t>
            </a:r>
            <a:r>
              <a:rPr b="1" lang="ko-KR" sz="28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주로 데카르트의 소용돌이 이론 비판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Microsoft Sans Serif"/>
              </a:rPr>
              <a:t>태양계와 천체들에 관한 역학 </a:t>
            </a:r>
            <a:r>
              <a:rPr b="1" lang="ko-KR" sz="2500" spc="-1" strike="noStrike">
                <a:solidFill>
                  <a:srgbClr val="000000"/>
                </a:solidFill>
                <a:latin typeface="Microsoft Sans Serif"/>
              </a:rPr>
              <a:t>(3</a:t>
            </a:r>
            <a:r>
              <a:rPr b="1" lang="ko-KR" sz="2500" spc="-1" strike="noStrike">
                <a:solidFill>
                  <a:srgbClr val="000000"/>
                </a:solidFill>
                <a:latin typeface="Microsoft Sans Serif"/>
              </a:rPr>
              <a:t>권</a:t>
            </a:r>
            <a:r>
              <a:rPr b="1" lang="ko-KR" sz="25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만유인력 도입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거리의 제곱에 반비례하는 구심력 도입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케플러의 세 가지 법칙 유도 후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설명의 범위를 지구의 세차 운동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달의 운동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지구의 조석 현상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혜성의 궤도로 확장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6629400" cy="5008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케플러 제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2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법칙 유도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6096240" cy="5149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케플러 제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1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법칙 유도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(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정리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11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뉴턴의 종합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천상계와 지상계 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/ 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천문학과 역학</a:t>
            </a:r>
            <a:endParaRPr b="1" lang="en-US" sz="3400" spc="-1" strike="noStrike">
              <a:solidFill>
                <a:srgbClr val="cc0000"/>
              </a:solidFill>
              <a:latin typeface="Microsoft Sans Serif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9560" y="981000"/>
            <a:ext cx="5761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뉴턴의 방법론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귀납주의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?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실용주의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가설의 배격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힘이란 무엇이며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어디에 있는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1" lang="ko-KR" sz="2200" spc="-1" strike="noStrike" u="sng">
                <a:solidFill>
                  <a:srgbClr val="000000"/>
                </a:solidFill>
                <a:uFillTx/>
                <a:latin typeface="Microsoft Sans Serif"/>
              </a:rPr>
              <a:t>“</a:t>
            </a:r>
            <a:r>
              <a:rPr b="1" lang="ko-KR" sz="2200" spc="-1" strike="noStrike" u="sng">
                <a:solidFill>
                  <a:srgbClr val="000000"/>
                </a:solidFill>
                <a:uFillTx/>
                <a:latin typeface="Microsoft Sans Serif"/>
              </a:rPr>
              <a:t>나는 가설을 세우지 않는다”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 u="sng">
                <a:solidFill>
                  <a:srgbClr val="cc0000"/>
                </a:solidFill>
                <a:uFillTx/>
                <a:latin typeface="Microsoft Sans Serif"/>
              </a:rPr>
              <a:t>지금까지 나는 현상으로부터 중력의 원인을 발견하지 못했고</a:t>
            </a:r>
            <a:r>
              <a:rPr b="0" lang="ko-KR" sz="2200" spc="-1" strike="noStrike" u="sng">
                <a:solidFill>
                  <a:srgbClr val="cc0000"/>
                </a:solidFill>
                <a:uFillTx/>
                <a:latin typeface="Microsoft Sans Serif"/>
              </a:rPr>
              <a:t>, </a:t>
            </a:r>
            <a:r>
              <a:rPr b="0" lang="ko-KR" sz="2200" spc="-1" strike="noStrike" u="sng">
                <a:solidFill>
                  <a:srgbClr val="cc0000"/>
                </a:solidFill>
                <a:uFillTx/>
                <a:latin typeface="Microsoft Sans Serif"/>
              </a:rPr>
              <a:t>이에 대해 어떠한 가설도 설정하지 않는다</a:t>
            </a:r>
            <a:r>
              <a:rPr b="0" lang="ko-KR" sz="2200" spc="-1" strike="noStrike" u="sng">
                <a:solidFill>
                  <a:srgbClr val="cc0000"/>
                </a:solidFill>
                <a:uFillTx/>
                <a:latin typeface="Microsoft Sans Serif"/>
              </a:rPr>
              <a:t>.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왜냐하면 현상으로부터 이끌어내지 못한 어떤 것도 가설로 볼 수 있기 때문이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.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가설은 형이상학적이건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물리적이건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신비적이건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기계적이건 간에 실험 철학에서 차지할 자리가 없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.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&lt;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프린키피아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현상에서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수학적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)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힘 발견 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 이를 통해 다른 현상 설명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나는 이 책을 자연철학의 수학적 원리로서 제시한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.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왜냐하면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자연철학의 임무 전체라는 것은 </a:t>
            </a:r>
            <a:r>
              <a:rPr b="1" lang="ko-KR" sz="2200" spc="-1" strike="noStrike" u="sng">
                <a:solidFill>
                  <a:srgbClr val="336600"/>
                </a:solidFill>
                <a:uFillTx/>
                <a:latin typeface="Microsoft Sans Serif"/>
              </a:rPr>
              <a:t>(1)</a:t>
            </a:r>
            <a:r>
              <a:rPr b="1" lang="ko-KR" sz="2200" spc="-1" strike="noStrike" u="sng">
                <a:solidFill>
                  <a:srgbClr val="336600"/>
                </a:solidFill>
                <a:uFillTx/>
                <a:latin typeface="Microsoft Sans Serif"/>
              </a:rPr>
              <a:t>운동의 현상들로부터 자연의 힘을 탐구하고 </a:t>
            </a:r>
            <a:r>
              <a:rPr b="1" lang="ko-KR" sz="2200" spc="-1" strike="noStrike" u="sng">
                <a:solidFill>
                  <a:srgbClr val="336600"/>
                </a:solidFill>
                <a:uFillTx/>
                <a:latin typeface="Microsoft Sans Serif"/>
              </a:rPr>
              <a:t>(2)</a:t>
            </a:r>
            <a:r>
              <a:rPr b="1" lang="ko-KR" sz="2200" spc="-1" strike="noStrike" u="sng">
                <a:solidFill>
                  <a:srgbClr val="336600"/>
                </a:solidFill>
                <a:uFillTx/>
                <a:latin typeface="Microsoft Sans Serif"/>
              </a:rPr>
              <a:t>그 힘으로부터 다시 현상을 설명하는 것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이기 때문이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.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&lt;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프린키피아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현상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케플러 법칙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로부터 그런 현상을 생기게 한 힘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만유인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을 얻어낼 수 있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그것을 수학적으로 분석하여 다른 현상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지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조석현상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혜성의 운동 등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을 설명해낼 수 있으면 충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!!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6553080" cy="593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517880" y="2625840"/>
            <a:ext cx="102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Willi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Blake</a:t>
            </a:r>
            <a:r>
              <a:rPr b="0" lang="zh-CN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뉴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부록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갈릴레오의 초기 역학과 임페투스 이론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상승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낙하 운동의 설명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v ∝ Impetus - Gravitas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상승의 원인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impetus) &gt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gravitas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상승의 감속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점진적 소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낙하의 원인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lt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낙하의 가속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점진적 소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즉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임페투스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(impetus)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와 무거움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(gravitas)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사이의 합성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임페투스는 정점에서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0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이 되지 않음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그렇다면 그 상태에서 수평방향으로 운동을 시킨다면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강제적이지도 자연적이지도 않지만 항구적으로 운동하는 중간적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(intermediate)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운동 가능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부록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의 초기 역학과 아르키메데스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중세의 몇몇 논변가들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낙하속도는 물체의 </a:t>
            </a: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원소성분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에 의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원소성분비가 같은 두 물체는 같은 속도로 낙하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진공 중에서도 무한대의 속도 가지지 않음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갈릴레오의 초기 낙하운동 법칙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르키메데스의 영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물체와 매질의 밀도 차이 관계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v ∝ (d-d</a:t>
            </a:r>
            <a:r>
              <a:rPr b="0" lang="ko-KR" sz="1800" spc="-1" strike="noStrike" baseline="-25000">
                <a:solidFill>
                  <a:srgbClr val="cc0000"/>
                </a:solidFill>
                <a:latin typeface="Microsoft Sans Serif"/>
              </a:rPr>
              <a:t>m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 (d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물체의 밀도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, d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Microsoft Sans Serif"/>
              </a:rPr>
              <a:t>m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매질의 밀도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만약 매질의 밀도가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이 되는 진공에서 낙하시킨다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낙하속도는 물체의 밀도에만 비례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밀도가 같은 물체는 같은 속도로 낙하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점차적인 변화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모든 물체는 한 가지의 물질입자들로 구성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물체마다의 성질과 밀도 차이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입자들의 조밀성 차이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따라서 “진공 하에서 모든 물체는 같은 속도를 가져야 함” </a:t>
            </a: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(1604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icrosoft Sans Serif"/>
              </a:rPr>
              <a:t>부록</a:t>
            </a:r>
            <a:r>
              <a:rPr b="1" lang="en-US" sz="2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2800" spc="-1" strike="noStrike">
                <a:solidFill>
                  <a:srgbClr val="cc0000"/>
                </a:solidFill>
                <a:latin typeface="Microsoft Sans Serif"/>
              </a:rPr>
              <a:t>갈릴레오의 사고실험들</a:t>
            </a:r>
            <a:endParaRPr b="1" lang="en-US" sz="2800" spc="-1" strike="noStrike">
              <a:solidFill>
                <a:srgbClr val="cc0000"/>
              </a:solidFill>
              <a:latin typeface="Microsoft Sans Seri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4032000" cy="2112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4032000" cy="1492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788000" y="476280"/>
            <a:ext cx="3800520" cy="1477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788000" y="2060640"/>
            <a:ext cx="3767040" cy="1473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788000" y="3789360"/>
            <a:ext cx="3778200" cy="29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Microsoft Sans Serif"/>
              </a:rPr>
              <a:t>데카르트</a:t>
            </a:r>
            <a:r>
              <a:rPr b="1" lang="en-US" sz="3400" spc="-1" strike="noStrike">
                <a:solidFill>
                  <a:srgbClr val="cc0000"/>
                </a:solidFill>
                <a:latin typeface="Microsoft Sans Serif"/>
              </a:rPr>
              <a:t>(Rene Descartes, 1596-1650)</a:t>
            </a:r>
            <a:endParaRPr b="1" lang="en-US" sz="34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세 가지 “자연의 법칙”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Microsoft Sans Serif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모든 물체는 다른 것이 그 상태를 변화시키려 하지 않는 한 똑같은 상태로 남아 있으려고 한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Microsoft Sans Serif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는 직선으로 그 운동을 계속하려 한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Microsoft Sans Serif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가 자신보다 강한 것에 부딪히면 그 운동을 잃지 않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약한 것에 부딪혀서 그것을 움직이게 하면 그것에 준 만큼의 운동을 잃는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1,2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법칙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직선 관성의 법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자연스러운 운동”과 “비자연스러운 운동”의 구분이 진정으로 깨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법칙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운동의 양 보존의 법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의 양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= 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물질의 양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m)” ×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속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v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데카르트의 충돌 법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68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데카르트의 전제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계는 물질과 운동으로 구성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은 오직 “충돌”에 의해서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충돌 전후의 “운동의 양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mv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보존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데카르트의 충돌 법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각종 경우에 따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7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가지로 구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비판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호이겐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의 상대성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2&amp;4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라이프니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연속성의 원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&amp;2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문제의 근본 원인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42120" y="404640"/>
            <a:ext cx="34826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데카르트의 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vortex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와 호이겐스의 원심적 경향</a:t>
            </a:r>
            <a:endParaRPr b="1" lang="en-US" sz="34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532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데카르트의 우주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우주는 물질로 꽉 찬 공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plenum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모든 운동은 일종의 순환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ortex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론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따라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원운동을 여전히 중요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But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주된 관심은 “원심적 경향”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호이겐스의 원심적 경향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마치 무게를 줄에 매달면 밑으로 잡아당기는 힘을 가지듯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원운동을 하는 물체도 바깥 방향으로의 힘을 가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s ∝ t</a:t>
            </a:r>
            <a:r>
              <a:rPr b="0" lang="ko-KR" sz="2200" spc="-1" strike="noStrike" baseline="30000">
                <a:solidFill>
                  <a:srgbClr val="000000"/>
                </a:solidFill>
                <a:latin typeface="Microsoft Sans Serif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원심적 경향의 크기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F = mv</a:t>
            </a:r>
            <a:r>
              <a:rPr b="0" lang="ko-KR" sz="2200" spc="-1" strike="noStrike" baseline="30000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/ r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84720" y="1341360"/>
            <a:ext cx="2822760" cy="4608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84720" y="1700280"/>
            <a:ext cx="28562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데카르트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호이겐스의 한계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원운동은 여전히 당연한</a:t>
            </a: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(?) </a:t>
            </a: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운동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Sans Serif"/>
              </a:rPr>
              <a:t>원운동을 만들어내는 원인보다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Sans Serif"/>
              </a:rPr>
              <a:t>원운동 시에 발생하는 원심적 경향에 관심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Microsoft Sans Serif"/>
              </a:rPr>
              <a:t>구심력이란 개념으로 넘어가기 어려움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오직 물질</a:t>
            </a: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(matter) + </a:t>
            </a: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운동</a:t>
            </a: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(motion)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Sans Serif"/>
              </a:rPr>
              <a:t>그렇다면 이들에게 “힘”이란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Microsoft Sans Serif"/>
              </a:rPr>
              <a:t>물체가 “가진” 경향성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Microsoft Sans Serif"/>
              </a:rPr>
              <a:t>충돌”을 통해서만 전달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Sans Serif"/>
              </a:rPr>
              <a:t>신비스런 ‘원격 작용’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(action at a distance) </a:t>
            </a:r>
            <a:r>
              <a:rPr b="0" lang="zh-CN" sz="2600" spc="-1" strike="noStrike">
                <a:solidFill>
                  <a:srgbClr val="000000"/>
                </a:solidFill>
                <a:latin typeface="Microsoft Sans Serif"/>
              </a:rPr>
              <a:t>배제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이러한 한계들은 뉴턴에 의해 극복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뉴턴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(Issac Newton, 1642-1727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665-66 (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기적의 해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?)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케플러 제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법칙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호이겐스 원심적 경향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mv</a:t>
            </a:r>
            <a:r>
              <a:rPr b="0" lang="ko-KR" sz="2000" spc="-1" strike="noStrike" baseline="30000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r →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행성의 원심력 ∝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1/r</a:t>
            </a:r>
            <a:r>
              <a:rPr b="0" lang="ko-KR" sz="2000" spc="-1" strike="noStrike" baseline="30000">
                <a:solidFill>
                  <a:srgbClr val="000000"/>
                </a:solidFill>
                <a:latin typeface="Microsoft Sans Serif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데카르트의 기계적 철학에 머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679: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후크와의 서신교환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후크로부터 중요한 통찰 얻음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타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원운동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직선운동을 계속 휘게 하는 힘의 작용에 의한 것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684 8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월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핼리의 방문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질문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거리의 제곱에 반비례하는 힘이 작용할 경우 행성의 궤도는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답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타원궤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이미 증명을 했었는데 지금은 못 찾겠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684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년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1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월 논문 발표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논문 “궤도를 도는 천체의 운동에 관하여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책으로 출판하라는 핼리의 권유로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개월간 집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687: &lt;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프린키피아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&gt;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출판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케플러의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법칙 모두 유도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08:18Z</dcterms:modified>
  <cp:revision>25</cp:revision>
  <dc:subject/>
  <dc:title>중세 유럽의 과학</dc:title>
</cp:coreProperties>
</file>